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AD6-F84E-4F97-A428-D8E3A2CB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214-106C-4015-BB03-E6758B44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205-9464-44F7-B833-C7D87E95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B75-AEE3-4262-BD7F-B07C3DBB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B877-A51C-4A8A-9212-567D2EE4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F52F-7D9C-4BEE-94C8-15584A35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176F-21CF-45F5-8B85-BA8F9744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B027-F2F2-450C-B339-A3782DF7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BB5B-DCC2-4FDB-96A7-CEE2C24C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293D-6945-4958-8F03-B385EABA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6B46-0436-4994-9F88-92186FED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910-2BED-4A20-8063-46E461CF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3828-DBFE-470B-8D91-AF4EBFCA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96D9-C1A6-4106-8360-24C9D2B2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8D34-DE68-492B-A6F4-ABA1ADA7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4D57-961A-4A24-A4AC-B2014E4E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0342-4E88-4350-807B-00241389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650-1A13-436A-AC8C-9C7F42F8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FA8-28CA-4A66-923C-51F6C5E1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7BE-283C-446A-9475-4B20235E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098-6C04-4273-8187-5C5F1854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194-098E-4888-8752-A265300B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925-8BFD-429A-8C6B-F3E3F0E8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5B2-82F2-458A-8ABE-7723BFE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2F2D-77F8-46AF-AC44-58D6AB7029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CD26-4EC3-422E-B4EC-E4A58F5C3FA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pol.tcnj.edu/amer_pol_hist/thumbnail434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949, Communists in China led b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Mao Zedo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n Chinese revol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ablish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"Peoples Republic of China"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"Red China"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949, Soviets successfully test atomic bom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erlin Wall: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 in 1961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 million East Germans escaped to West Berlin between 1949-1961; Soviets frustra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hrushchev threatened President Kennedy: USSR would sign peace treaty with East Germany who would then control access to Berlin; Soviets would protect East Germany’s right to control flow into Berli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rlin Wall built instead of enforcing ultimatum to U.S.; ended future crises over Berl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erlin Wa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10" descr="walltalk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3149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Members-BerlinWall"/>
          <p:cNvPicPr/>
          <p:nvPr/>
        </p:nvPicPr>
        <p:blipFill>
          <a:blip r:embed="rId2"/>
          <a:stretch/>
        </p:blipFill>
        <p:spPr>
          <a:xfrm>
            <a:off x="4191120" y="3352680"/>
            <a:ext cx="464796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b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came a communist country in 1959 under leadership of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Fidel Castr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uba became an ally of the Soviet Un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Bay of Pigs Invas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1961: U.S.-trained Cuban exiles tried unsuccessfully to invade Cub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ban Missile Cri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62: U.S. demanded Soviets remove their newly installed nuclear missiles from Cub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isis became the closest USSR and US came to nuclear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placed blockade (naval quarantine) on any further missiles into Cu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hrushchev agreed to remove missiles in return for U.S. removing its missiles from Turkey and vowing not to invade Cuba in the futu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isis weakened Khrushchev and contributed to his downfall in 196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ban Missile Cri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6" descr="phot_1962_cmissilecrisis"/>
          <p:cNvPicPr/>
          <p:nvPr/>
        </p:nvPicPr>
        <p:blipFill>
          <a:blip r:embed="rId1"/>
          <a:stretch/>
        </p:blipFill>
        <p:spPr>
          <a:xfrm>
            <a:off x="380880" y="1523880"/>
            <a:ext cx="4572000" cy="3495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CubaMap1b_w"/>
          <p:cNvPicPr/>
          <p:nvPr/>
        </p:nvPicPr>
        <p:blipFill>
          <a:blip r:embed="rId2"/>
          <a:stretch/>
        </p:blipFill>
        <p:spPr>
          <a:xfrm>
            <a:off x="4648320" y="2971800"/>
            <a:ext cx="40622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Vietnam War (1964-197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.S. fought unsuccessful war in Southeast Asia to prevent communism from spreading into South Vietna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omino Theory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U.S. believed if Vietnam fell to communism, Laos, Cambodia and Thailand would also fall (perhaps even India) (1964-1973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orean War 1950-195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fter WWII, Korea divided at 38th parallel: North was communist, South was n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Caus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: 1950, North Korea invaded South Korea (supported by Soviet resource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 (led by US &amp;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en. Douglas MacArthu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 sent forces to push back communis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viets boycotting UN for U.S. refusal to allow "Red China" into UN Security Counc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ina sends hundreds of thousands of troops to push back U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: cease-fire and border at 38th parallel restored; still in existence tod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orean 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6" descr="usmc1950"/>
          <p:cNvPicPr/>
          <p:nvPr/>
        </p:nvPicPr>
        <p:blipFill>
          <a:blip r:embed="rId1"/>
          <a:stretch/>
        </p:blipFill>
        <p:spPr>
          <a:xfrm>
            <a:off x="677880" y="1598760"/>
            <a:ext cx="3591000" cy="449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woman%20and%20child"/>
          <p:cNvPicPr/>
          <p:nvPr/>
        </p:nvPicPr>
        <p:blipFill>
          <a:blip r:embed="rId2"/>
          <a:stretch/>
        </p:blipFill>
        <p:spPr>
          <a:xfrm>
            <a:off x="4572000" y="2209680"/>
            <a:ext cx="3919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Hydrogen Bom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veloped by US in 1952 &amp; USSR in 1953: world now has two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uperpower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5" descr="castle"/>
          <p:cNvPicPr/>
          <p:nvPr/>
        </p:nvPicPr>
        <p:blipFill>
          <a:blip r:embed="rId1"/>
          <a:stretch/>
        </p:blipFill>
        <p:spPr>
          <a:xfrm>
            <a:off x="2362320" y="2819520"/>
            <a:ext cx="44020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Warsaw Pac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955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llective security organization of eastern bloc nations to counter NA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policy of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"massive retaliation"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1953-5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policy now is to help eastern European countries remove communis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vows to destroy USSR with nuclear weapons if it tries to exp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rinksmanship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the art of going to the brink of war to force the other side t back dow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lations b/n USSR &amp; U.S. Improve w/ Ascension to power of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Nikita Khrushchev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ek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peaceful coexistenc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th the West in order to focus on Soviet econ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ustrian Independe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USSR agreed in 1955 to real independence for a neutral Austria after 10 years of Allied occup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ulted in significant reduction in cold war tensions between 1955 &amp; 1957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lations b/n USSR &amp; U.S. Improve w/ Ascension to power of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Nikita Khrushchev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rushchev sought to prove communism was superior to capitalism and the USSR would be the model communist state in the world;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"we will bury you.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rushchev began wooing new nations of Asia and Africa with promises and aid, even if they were not communi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Geneva Summit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-- 1955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July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 meets with USSR, Britain, &amp; France to begin discussions on European security and disarmament; no agreements ma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958, relations sour with Khrushchev's ultimatum for Allies to leave Berlin: 6 month deadline passes without incident, extended indefinitel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822672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old War in 1960’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7" descr="Kennedy and Khrushchev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209680"/>
            <a:ext cx="45720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U-2 Inciden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spy plane shot down over USS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hrushchev demanded an apology from Eisenhower; Eisenhower refus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hrushchev and Eisenhower abor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5" descr="u2"/>
          <p:cNvPicPr/>
          <p:nvPr/>
        </p:nvPicPr>
        <p:blipFill>
          <a:blip r:embed="rId1"/>
          <a:stretch/>
        </p:blipFill>
        <p:spPr>
          <a:xfrm>
            <a:off x="4800600" y="2133720"/>
            <a:ext cx="390996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17:22:52Z</dcterms:created>
  <dc:creator>Preferred Customer</dc:creator>
  <dc:description/>
  <dc:language>en-US</dc:language>
  <cp:lastModifiedBy> </cp:lastModifiedBy>
  <dcterms:modified xsi:type="dcterms:W3CDTF">2008-07-28T03:30:19Z</dcterms:modified>
  <cp:revision>5</cp:revision>
  <dc:subject/>
  <dc:title>Cold War &amp; Recovery</dc:title>
</cp:coreProperties>
</file>